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9D00-773C-46CE-AC85-F2C3D73D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098-C2D4-4C79-B73E-A364BD67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687B-08C5-4356-B19B-B7CF339D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26E3-E13F-49D5-8611-F59E6C91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2542-27B6-4F26-8DD4-CAD394E3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EE87-78D4-44BB-B1FD-F8E6D60B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7754-F833-45A0-A1D1-FE053E9E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54E-F8C9-44CC-81C1-30F1B4BD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336D-A964-4482-9DAB-16DAC652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1115-F410-4179-A2E2-55ABEF46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A88C-4A60-4D84-B8A7-7BFEC5D4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47BD-5F81-42CC-BC66-118A3419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A2B7-BA5B-4C0D-851F-E9D913A0E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lements are Substances made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to thin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 matter is made of elements, what elements are in toothpaste, hand sanitizer, brea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you will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substance to research (licorice, lipstick, firework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substance in detail (1 paragra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prediction about what elements you think are in the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the substance and find out what elements are in it. Some of the elements may be listed as compounds so you may have to do a little detectiv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wiki page showing the elements in your sub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link your paragraph and prediction to your wiki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9:37:09Z</dcterms:created>
  <dc:creator>sbowers</dc:creator>
  <dc:description/>
  <dc:language>en-US</dc:language>
  <cp:lastModifiedBy>Lisa</cp:lastModifiedBy>
  <dcterms:modified xsi:type="dcterms:W3CDTF">2011-11-14T02:43:37Z</dcterms:modified>
  <cp:revision>5</cp:revision>
  <dc:subject/>
  <dc:title>What Elements are Substances made of?</dc:title>
</cp:coreProperties>
</file>